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1CE-3113-48E7-84CA-AD9849FA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C5B-2BE2-4E95-AF80-CFC9820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36B-5BE9-4482-A6AC-8F67FB80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FD0-AA20-4792-BE72-6BCF3F56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F32-CD56-462E-92DF-EC5B203B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1C2-FC6A-481A-9357-CE36F4EF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5D4-A2D7-48E2-937C-030990DA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EC4-17B8-414E-851C-E735173E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D60-9773-481E-8B80-13FACAE1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628-EBC4-4FCE-AB8A-9DEC66C4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B0C-260A-4644-8CEE-40E13994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07F-BEC6-4328-A6E3-3D0143D0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6C77-891F-43C1-AAEA-5BF08BEA3D1C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85840" y="1285920"/>
            <a:ext cx="88581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00000"/>
                </a:solidFill>
                <a:uFillTx/>
                <a:latin typeface="Comic Sans MS"/>
              </a:rPr>
              <a:t>Тешки метали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Сребро нитрат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(А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gN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у концентрацији од 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0.1%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(Кредеов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апи) се са успехом користио за превенциј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инфекције ока проузроковачем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гонореје; сваком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новорођенчету се укапавала по једна кап овог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раствора у оба ока. Штапићи сребро нитрата с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ористе као каустично средство за отклањањ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хипертрофичних гранулација у ранама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Сублимат (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живин хлорид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HgCl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се у разблажењу од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1:1000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користи за дезинфекцију предмета и, 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недостатку бољих средстава, за брзу дезинфекциј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руку хирурга после прањ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Једињење живе 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тимеросал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0,001-0,004%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се користи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ао презерватив за вакцине и серу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57120" y="1381320"/>
            <a:ext cx="8572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Бој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енцијана виоле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 природна боја која се у као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користи за лечење резистентн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ндидијазе усне дупље новорођенчади (соор)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иванол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 акридинска боја која се као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0,1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Алдехид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алдехи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лутаралдехи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е користе з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гумених катетера и оптички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струмената. Инструменти и катетери се ставе 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творен простор заједно са таблетам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ормалдехида из којих активна супстанца полако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арава. Глутаралдехид се користи у виду раствор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%) који мора да се алкалинизује (пХ око 8) да б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активирао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140360" y="6093000"/>
            <a:ext cx="3651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500040" y="1775880"/>
            <a:ext cx="821520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хекс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зазива 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строинтестин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ритац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. У већим дозама доводи 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јетре и плућ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равенска примена и инхалација изазивају метхемоглобинемију и хемолиз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одоник перокси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е локално надражај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убаци у дубоку рану, може ослободити кисеоник и направити гасну емболиј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изазива само мучнину и 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Када се водоник пероксид попије, треба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клонити гас из желуца назогастричком сукциј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а који има гасну емболију плућне артерије ставити одмах у Тренделенбургов положај и хитно послати у хипербаричну комор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084720" y="63360"/>
            <a:ext cx="27864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285840" y="1535040"/>
            <a:ext cx="885816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одофор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 супстанце у којима је јод везан за високомолекуларни носач, што омогућује већу растворљивост (нпр. повидон)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ингестије, јод и јодофоре делују каустично: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азивај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ол, повраћање, пролив, хиповолемиј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и шок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у треба одмах дати раствор скроба или млеко, јер у контакту са њима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од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лази у мање токсичне јодиде; садржај желуца постаје тамно-љубичаст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еба применити и активни уга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лијум перманганат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KMn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је ј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оксидационо средство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делује каустично; у контакту са водом распада се на Mn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KOH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анган диоксид боји ткива црно-браон.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бог оксидативног дејства изазива метхемоглобинемију, хемолизу, о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јетре и плућ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овање калијум перманганатом се л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чи као тровање базам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28760" y="18064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ас хлор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азива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плућ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ношење препарата хлора оралним путем има каустично дејство на желудац и једња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алдехид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ично налази у водено-алкохолном раствору (37% формалдехида, 12-15% метанола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унесе орално, делује каустич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што се апсорбује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формалдехи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лази у мрављу киселину и изазива тешку ацидоз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еба 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именити натријум-бикарбонат како би се сузбила ацидо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ок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 проме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лечити као код ингестије киселина или ба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1595520"/>
            <a:ext cx="8215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енол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е каустично у гастроинтестиналном тракт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ЦНС-у делује стимулатив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имптоми и зна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тровања с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вулзије, летаргија, ком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цидоза, метхемоглобинем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, 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л у трбуху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ерфора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роспе на кожу, пребојава је бледо брао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контаминацију кож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треб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дити са нискомолекуларним полиетилен-гликолом (ПЕТ 300 или 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ексахлорофен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хлор-фенол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ез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феноли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у каустично, изазивају хемолизу,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бубрега и јетре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епресију ЦНС-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ронична употреба хексахлорофена код беба доводи до вакуоларне енцефалопат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2960" y="1857240"/>
            <a:ext cx="82152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рна киселина (H</a:t>
            </a:r>
            <a:r>
              <a:rPr b="1" lang="en-US" sz="2400" spc="-1" strike="noStrike" baseline="-30000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BO</a:t>
            </a:r>
            <a:r>
              <a:rPr b="1" lang="en-US" sz="2400" spc="-1" strike="noStrike" baseline="-30000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добија из боракса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ристи као отров за бубашваб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делује локално надражајно (бол у трбуху, повраћање, пролив – зелено-плав садржа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 цео поцрвени, личи на “куваног рака”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па је посебно присутна на табанима, длановима и задњици; после 1-2 дана долази до десквама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оже доћи и до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тећење бубрег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опе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е јављ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д хроничне изложенос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Код тровања борном киселином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тивни угаљ не вреди користити, јер се не везује 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в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иселин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модијализа може б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и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СЕПТИЦИ КОЈИ СЕ ПРИМЕЊУЈУ У УСНОЈ ДУПЉ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00040" y="1643040"/>
            <a:ext cx="84297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септици се користе у оквиру паста за зубе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ругих препарата ради превенци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ормирањ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актеријског пл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ту сврху користе се бис-бигванидни антисептиц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хлорхексидин), кватернерна амонијумо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дињења (цетилпиридинијум и бензалконијум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лорид), феноли, оксидациона средств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терџенти и амино-алкох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 сада је највећу ефикасност показао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хлорхекс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спречавање плака антисептици се користе у вид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чности за испирање уста, жвакаће гуме и паст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зу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лорхексидин глукон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51440" y="4286160"/>
            <a:ext cx="64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дикације:  лечење периодонтитиса код одрасл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према се у виду раствора за испирање уст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кротаблета које се постављају у гингивалне џеп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36400" y="1413000"/>
            <a:ext cx="8026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нтисептици у стоматологиј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28760" y="17352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хексидин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некада доводи до пребојавања језика браон бојом, посебно ако се у храни налазе супстанце које су анјони, а саме имају својство боје. Има горак укус, и код неких пацијената може довести до поремећаја укуса. Веома ретко се јављају улкуси слузокоже желуца и оток паротидне жлез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ре наведени антисептици се могу користити за испирање постоперативне ране, за лечење рецидивантних оралних улцерација, за лечење стоматитиса због протезе и за дезинфекцију постављених ортодонстских апара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Цетилпиридинију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802800" y="4143240"/>
            <a:ext cx="403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 се у концентрацији од 0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 настанак плака и л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ингив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5435640" y="1203480"/>
            <a:ext cx="33163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ЧЕПИЋ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Suppositor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571680" y="165744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Супозиторијуми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су меки лековити препара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ичног, кугластог, ваљкастог или јајаст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блика који служе за увлачење у отворе тел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анус, вагина, нос, уво, р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На собној температури су чвршћи, што и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могућа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примену. У додиру са телом температур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а расте и они се топе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слобађајући лековиту супстан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и се могу чувати само на собној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температури; ако се чувају у хладњаку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долаз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до иреверзибилних промена 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у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и постају крти и неупотребљив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ЧЕПИЋ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Suppositor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 обзиром да се лако кваре, чепићи се издају увијени у воштану хартију или станиол. Увек треба скренути пажњу болеснику да пре примене чепића скине станиол и да се чепић не гут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positoria anal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57120" y="1804680"/>
            <a:ext cx="84297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Ч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епићи за аналну примену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г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у око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ко 3цм а широки око 1ц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нституенси аналних чепића могу бити какаов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ље (Cacao oleum), полиетиленгликоли и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меса желатина и глицер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ални супозиторијуми се примењују тако што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тискују у анус прстом све док не прођу аналн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финктер; знак да је чепић правилно примењен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сте да се не може споља напип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positoria anal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85840" y="1785960"/>
            <a:ext cx="8643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ековите супстанце примењујемо у облику чепића онд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да желимо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окално дејство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 анални канал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да када желимо да лек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е дражи слузокож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желуца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ли да приликом апсорпције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обиђ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етру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јер венска крв из аналног канала и доње 1/4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ектума отиче у доње хемороидалне вене које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. iliaca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e et communi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уливају 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у шупљу вен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стероидни антиинфламаторни лекови који имај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ојство да драже слузокожу желуца се чест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њују у облику чепић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Globuli vaginales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4200" y="2413080"/>
            <a:ext cx="8929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Ч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епићи за вагиналну примену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(Ovula, Vagit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ни су округли или јајасти, већи од аналних 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и вагиналних чепића су исти као код аналних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Вагиториа треба да се распадне најдаље за 60 минута п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аплик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Cereoli (Bacilli medicati seu Styli)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00040" y="1996920"/>
            <a:ext cx="86439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Ш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тапићи за примену у нос, спољни ушни канал, уретру, ране или синусе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Тањи су од аналних чепића, ваљкасти и на крајевим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зашиљ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 је сличан конституенсу аналних 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ристе се када је потребно локално дејство л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Штапићи који се уносе у уретру или ране морају б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терил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АНТИСЕПТИЦИ И ДЕЗИНФИЦИЈЕН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7120" y="1500120"/>
            <a:ext cx="84297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Дезинфекц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поступак уништава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егетативних облика микроорганизама п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чему споре остају неоштећен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се дезинфекција спроводи на кожи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лузокожама човека, такав поступа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зивам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нтисепс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нтисептиц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езинфицијенс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у супстанц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специфично делују на микроорганизм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ршећи денатурацију њихових структурних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ункционалних протеина. Они су сувиш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ксични за ткив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би се примењива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стемски, па се зато користе искључив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кал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28760" y="1810080"/>
            <a:ext cx="850104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Алкохо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јвише се корист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етанол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концентрацији од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70%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Њиме се врши чишћењ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же пре примене ињекције и пре хирурш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ервенције (тада се кожа прво очисти бензином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тим алкохолом и на крају препаратом ј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Кисел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рна киселин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користи као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створ за испирање шупљих органа (мокраћ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шике, вагине, ректума). У виду праха користи с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ипање газа на ранама које су инфициране с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eudomonas aeruginos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85840" y="2054160"/>
            <a:ext cx="85723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Фено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Први од фенола је коришћен обични фенол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знат под називом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рболна киселин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нглески хирург Листер је први почео ер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тисепсе (1864. године) управо употребом карбол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иселине. Раствор карболне киселине (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-5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дезинфекцију инструмената који се 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гу стерилисати топлотом и за дезинфекциј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ова и зидова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ичну употребу имају 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резо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фено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1428840"/>
            <a:ext cx="850104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Оксидациона средств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Ове супстанце врше оксидацију протеин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икроорганизама и на тај начин их денатури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лијум перманганат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"хиперманган", К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у разблажењу од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:500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ристи за испирање р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одоник пероксид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"хидроген"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у виду 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; не само да оксидиш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икроорганизме, већ ствара пену (због ослобађања кисеоника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ја чисто механички избацује нечистоће из ране. Такођ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ује локално хемостатички. Веома дубоке ране не треб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ирати водоник пероксидом јер ослобођени кисеоник мож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ћи у отворене крвне судове и изазвати гасну емболију. У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сетоструко већем разблажењу (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0,3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водоник пероксид с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е употребити за испирање усне шупљине и орофарин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ињење сирћетне киселине са водоник пероксидом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сирћетна кисели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О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користи з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предмета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58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428760" y="1168920"/>
            <a:ext cx="8715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Халогена једињењ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о су супстанције које у свом молекул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ају неки халогени елемент (обично јод или хлор)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кохолни раствор јода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тинктура јода: 6,5г јода + 2,5г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лијум јодида + 91г концентрованог алкохола) се корист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чишћење коже пре хируршке интервенције, з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мазивање околине ране и за брзу припрему рук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ирурга. У новије време за чишћење коже користе с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ињења јода са поливинил-пиролидоном, тзв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видон-</a:t>
            </a: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од,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и пена. Са препаратима јода треба бит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резан код мале деце јер ексцесивна апсорпција са кож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е довести до хипотире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arrel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Dakin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ов раствор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раствор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тријум-хипохлорит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. Сличну функцију има и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створ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амин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-толуолсулфан хлорамид натријум, 0,25-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5%) који се, осим тога, може користити и з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предмета и подова (1-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00040" y="2274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Детерџент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Детерџенти су површински актив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атерије чији катјонски део продире кро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мбрану микроорганизма и разара је. Катјонск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о скоро увек садржи кватернерни азот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ензалконијум хлорид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други детерџенти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арно користе за дезинфекцију предмета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ов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00040" y="2214720"/>
            <a:ext cx="83581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</a:rPr>
              <a:t>Сапун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Механизам дејства сапуна је исти као ко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ерџената, али је овде део молекуле кој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дире у мембрану микроорганизма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ј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пуни су у ствар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натријумов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калијумов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оли масних киселин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Користе се за прање 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зинфекцију коже пре хируршке интервенције.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5-08-02T11:06:30Z</dcterms:modified>
  <cp:revision>160</cp:revision>
  <dc:subject/>
  <dc:title>Slide 1</dc:title>
</cp:coreProperties>
</file>